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35600" cy="986940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9400"/>
              <a:gd name="textAreaBottom" fmla="*/ 9869040 h 9869400"/>
            </a:gdLst>
            <a:ahLst/>
            <a:rect l="textAreaLeft" t="textAreaTop" r="textAreaRight" b="textAreaBottom"/>
            <a:pathLst>
              <a:path w="21600" h="31649">
                <a:moveTo>
                  <a:pt x="5" y="0"/>
                </a:moveTo>
                <a:arcTo wR="5" hR="5" stAng="16200000" swAng="-5400000"/>
                <a:lnTo>
                  <a:pt x="0" y="31644"/>
                </a:lnTo>
                <a:arcTo wR="5" hR="5" stAng="10800000" swAng="-5400000"/>
                <a:lnTo>
                  <a:pt x="21595" y="316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280" rIns="892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37404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14560" y="937368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E5254B43-088C-44EB-BC0B-47323021A01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E6F88737-2E0B-46C6-A9E5-8C11185C66F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857B46D6-69E3-46CA-A12C-91DC37104AF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17904-0270-42E4-8803-67B4A75172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9940F-3C7A-45BF-BBC3-86912381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CAC3E-B9C9-411E-BC3C-4CAFA291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FDB48-B90B-4EF1-86DF-F7810918C9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6A327-3C43-4F96-831B-41332627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BD411-785A-4470-BEAC-F300A50D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C38C1-45AB-4D8B-930E-23A72E80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08005-E98D-4D66-87DC-41B20DE8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8184D-DA7B-411C-83FE-0F9A5897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91469-5D65-4E7C-B6D4-3091FD85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185C4-9B2F-4B46-8D24-7574A832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1D32B-09CE-40DF-862A-A0C61C57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9.08.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22E1C46-C678-4895-89E6-C31683AF5609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623880" y="124452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орожная карта»  План мероприятий по реализации проекта «Бережливая поликлиника»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ударственном бюджетном учреждении здравоохранения «ГБУЗ Кузнецкая межрайонная больница» поликлиника №1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КВАРТАЛ 2019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76120" y="2093760"/>
          <a:ext cx="8528040" cy="3897360"/>
        </p:xfrm>
        <a:graphic>
          <a:graphicData uri="http://schemas.openxmlformats.org/drawingml/2006/table">
            <a:tbl>
              <a:tblPr/>
              <a:tblGrid>
                <a:gridCol w="293760"/>
                <a:gridCol w="2244600"/>
                <a:gridCol w="489240"/>
                <a:gridCol w="404640"/>
                <a:gridCol w="365040"/>
                <a:gridCol w="384480"/>
                <a:gridCol w="434880"/>
                <a:gridCol w="35568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680"/>
                <a:gridCol w="355320"/>
              </a:tblGrid>
              <a:tr h="63180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1.20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1.2019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01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в поликлинике №1 государственном бюджетном учреждении здравоохранения  Кузнецкая межрайонная больница рабочую группу по реализации пилотного проекта «Бережливая поликлиника» на территории поликлиники№1 (далее – рабочая группа), определить лидеров проектов по направления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ать и представить на обсуждение рабочей группы макет планировки регистратуры поликлиники с учетом принятых решений о расширении зон ожидания пациентов (ул. Правды,13)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гласование перечня проблем, требующих решения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бор кабинета для реализации проекта по внедрению системы 5С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учение рабочей группы  поликлиники 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ка регламентирующей документации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сти фотофиксацию до начала проекта,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едрить лист предложений и лист проблем для сотрудников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делать заявку на недостающее оборудование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461"/>
          <p:cNvSpPr/>
          <p:nvPr/>
        </p:nvSpPr>
        <p:spPr>
          <a:xfrm>
            <a:off x="569880" y="165240"/>
            <a:ext cx="342900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врач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УЗ « Кузнецкая межрайонная больниц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апов А.В.  _______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62"/>
          <p:cNvSpPr/>
          <p:nvPr/>
        </p:nvSpPr>
        <p:spPr>
          <a:xfrm>
            <a:off x="5519880" y="176040"/>
            <a:ext cx="31240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6880" y="544680"/>
          <a:ext cx="8285400" cy="485424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.0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-19.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-28.0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Тактического плана реализаци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основе выявленных проблем составить детальный план мероприятий согласно системе 5С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сти работы по внедрению 5С на рабочем месте врача терапевта и врача общей практики в кабинете №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верить эффективность улучшенных процессов. При необходимости внести корректировку,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ставить отчет о проделанной работе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9:01:08Z</dcterms:created>
  <dc:creator>Румянцева Луиза Марсовна</dc:creator>
  <dc:description/>
  <dc:language>en-US</dc:language>
  <cp:lastModifiedBy>user</cp:lastModifiedBy>
  <cp:lastPrinted>2019-02-04T11:58:58Z</cp:lastPrinted>
  <dcterms:modified xsi:type="dcterms:W3CDTF">2019-02-04T11:38:15Z</dcterms:modified>
  <cp:revision>342</cp:revision>
  <dc:subject/>
  <dc:title>Слайд 1</dc:title>
</cp:coreProperties>
</file>